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68880" y="273600"/>
            <a:ext cx="60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68880" y="1604520"/>
            <a:ext cx="6007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568880" y="3682080"/>
            <a:ext cx="6007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68880" y="273600"/>
            <a:ext cx="60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8880" y="1604520"/>
            <a:ext cx="2931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240" y="1604520"/>
            <a:ext cx="2931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8880" y="3682080"/>
            <a:ext cx="2931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47240" y="3682080"/>
            <a:ext cx="2931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68880" y="273600"/>
            <a:ext cx="60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68880" y="1604520"/>
            <a:ext cx="193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00360" y="1604520"/>
            <a:ext cx="193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31480" y="1604520"/>
            <a:ext cx="193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68880" y="3682080"/>
            <a:ext cx="193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600360" y="3682080"/>
            <a:ext cx="193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631480" y="3682080"/>
            <a:ext cx="193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8880" y="273600"/>
            <a:ext cx="60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568880" y="1604520"/>
            <a:ext cx="60073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68880" y="273600"/>
            <a:ext cx="60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568880" y="1604520"/>
            <a:ext cx="60073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68880" y="273600"/>
            <a:ext cx="60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68880" y="1604520"/>
            <a:ext cx="29314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47240" y="1604520"/>
            <a:ext cx="29314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68880" y="273600"/>
            <a:ext cx="60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568880" y="273600"/>
            <a:ext cx="60073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68880" y="273600"/>
            <a:ext cx="60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8880" y="1604520"/>
            <a:ext cx="2931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240" y="1604520"/>
            <a:ext cx="29314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568880" y="3682080"/>
            <a:ext cx="2931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68880" y="273600"/>
            <a:ext cx="60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68880" y="1604520"/>
            <a:ext cx="29314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240" y="1604520"/>
            <a:ext cx="2931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47240" y="3682080"/>
            <a:ext cx="2931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68880" y="273600"/>
            <a:ext cx="60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68880" y="1604520"/>
            <a:ext cx="2931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240" y="1604520"/>
            <a:ext cx="2931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68880" y="3682080"/>
            <a:ext cx="6007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 txBox="1"/>
          <p:nvPr/>
        </p:nvSpPr>
        <p:spPr>
          <a:xfrm>
            <a:off x="1295280" y="62485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1.  Current Organization of FACA Subcommitttee for Ozone, Particulate Matter and Regional Haze Implementation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3486240" y="457200"/>
            <a:ext cx="23050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2930400" y="1371600"/>
            <a:ext cx="34956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3962520" y="2590920"/>
            <a:ext cx="14209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3581280" y="4572000"/>
            <a:ext cx="20667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505320" y="5486400"/>
            <a:ext cx="2286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342900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3429000"/>
            <a:ext cx="16765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581280" y="457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 Air Act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95480" y="1371600"/>
            <a:ext cx="3429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ommittee for                            Ozone/Particulate Matter/Regional Haze Implementation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86200" y="2666880"/>
            <a:ext cx="152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i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362320" y="35812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and Regional Strate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4120" y="35053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Programs Analysis and Poli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505320" y="4648320"/>
            <a:ext cx="2209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and Outr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81280" y="5562720"/>
            <a:ext cx="2209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 and Technical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9000" y="3048120"/>
            <a:ext cx="533520" cy="3808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304812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30481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37339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4038480"/>
            <a:ext cx="304560" cy="5335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638680" y="40384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4038480"/>
            <a:ext cx="914400" cy="17528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791320" y="4038480"/>
            <a:ext cx="1066680" cy="17528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IC</dc:creator>
  <dc:description/>
  <dc:language>en-US</dc:language>
  <cp:lastModifiedBy>SAIC</cp:lastModifiedBy>
  <cp:revision>0</cp:revision>
  <dc:subject/>
  <dc:title/>
</cp:coreProperties>
</file>