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9967A-DFAE-4DD4-B74D-ED6975A22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99920" y="53668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2520" y="2596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9920" y="53668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962520" y="53668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86840" y="2596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73760" y="2596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9920" y="53668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886840" y="53668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973760" y="53668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99920" y="25966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962520" y="25966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99920" y="8218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2520" y="25966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99920" y="53668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62520" y="2596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62520" y="53668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9920" y="8218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9920" y="2596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2520" y="2596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9920" y="53668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88800" y="8224920"/>
            <a:ext cx="20955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93920" y="8224920"/>
            <a:ext cx="31845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3920" y="2662200"/>
            <a:ext cx="107640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7924680"/>
            <a:ext cx="807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Flow chart depicting issue paper topics 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late to the air quality management proce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- ECR Incorpo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838080" y="7162920"/>
            <a:ext cx="990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NAAQS promulgated                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1447920"/>
            <a:ext cx="8153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JUN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un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J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‘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‘99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‘0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‘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3920" y="3805200"/>
            <a:ext cx="107640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00" y="5253120"/>
            <a:ext cx="1228680" cy="69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5520" y="2585880"/>
            <a:ext cx="115236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85880" y="1976400"/>
            <a:ext cx="1000080" cy="54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1520" y="1976400"/>
            <a:ext cx="1228680" cy="69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6480" y="1976400"/>
            <a:ext cx="847800" cy="54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881520"/>
            <a:ext cx="1066680" cy="54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8680" y="5253120"/>
            <a:ext cx="92376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4480" y="3119400"/>
            <a:ext cx="1076400" cy="54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1000" y="3881520"/>
            <a:ext cx="843120" cy="54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920" y="1976400"/>
            <a:ext cx="107640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3680" y="4719600"/>
            <a:ext cx="771480" cy="54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7080" y="28954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3040" y="5638680"/>
            <a:ext cx="760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7680" y="3957480"/>
            <a:ext cx="923760" cy="4665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4640" y="2819520"/>
            <a:ext cx="213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2096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7640" y="3352680"/>
            <a:ext cx="98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8209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35448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724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411624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560" y="563868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14800" y="4192560"/>
            <a:ext cx="0" cy="144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6240" y="41911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7080" y="396252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9639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6934320"/>
            <a:ext cx="822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6400800"/>
            <a:ext cx="28195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‘9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‘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934320"/>
            <a:ext cx="18288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00" y="7462800"/>
            <a:ext cx="8238960" cy="29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IMPLEMENTATION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981080"/>
            <a:ext cx="914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AQS PROMUL-G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320" y="266688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MONITORING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320" y="380988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EMISSION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2280" y="5257800"/>
            <a:ext cx="1219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OS. CHEMISTRY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2280" y="3276720"/>
            <a:ext cx="15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S AT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342900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 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41972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438948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’L HAZE ECON INCENT INTEG 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594360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 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57400" y="5334120"/>
            <a:ext cx="106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 RESULTS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57400" y="58672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’L HAZE INTEG 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924680" y="46483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96080" y="525780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91520" y="2057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 SIPS DUE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5000" y="4038480"/>
            <a:ext cx="60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5308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        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29400" y="457200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’L HAZE                   ECON INCENT   INTEG IMPL NSR              INST M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3962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419720" y="457200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 INCENT MONIT INCENT ATT DATES INST MECH REG’L H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52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ATE A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43200" y="3657600"/>
            <a:ext cx="152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S AT RISK REG’L HAZE AOI/AOV      MONIT INCENT ATT DATES      NSR                    TOO CLOSE        TO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320040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I/AOV INTEG IMPL MONIT 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198108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9880" y="198108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110      SIPS DUE &amp; DESIG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90920" y="20574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SIPS 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259092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AIR QUALIT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905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41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1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la Nichole Britt</dc:creator>
  <dc:description/>
  <dc:language>en-US</dc:language>
  <cp:lastModifiedBy>SAIC</cp:lastModifiedBy>
  <cp:revision>0</cp:revision>
  <dc:subject/>
  <dc:title>No Slide Title</dc:title>
</cp:coreProperties>
</file>